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3711-6E8E-4537-A675-C3B6705D6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38600" y="364392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57EB-8BAE-4278-8DB1-C52E26EC2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70614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7CD0-A6E7-4080-9BE9-5C851D962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54336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4812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860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54336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54812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3ADE-C427-429E-A8FF-AAD658860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DDDF7-0C00-49CE-902D-0E2874DF8E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E930-4ED2-415A-8E6F-E1DF54BC75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637F-93C1-4CD2-B500-B2D1255536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F2ECB-BB87-4262-9AAC-AB90C469DA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1BB5-7556-42AA-8CE3-7CB5F7C942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536800" y="53352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6270-2649-4C82-8EF6-AA88016CBC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0B7B-F629-4D91-B8F5-53BA139B9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7552-B096-4CBD-8BDA-1A894FF10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0614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43A5-DE16-4A02-8905-FA2BFE8231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6FA7-2A17-4D43-AFEF-F7FB9EDE12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8600" y="364392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BF04-2173-48B4-A9B5-BDC3538F0D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70614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E45D-DECC-4E96-9060-B6C21A7C6B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4336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548120" y="144756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3860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654336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548120" y="3643920"/>
            <a:ext cx="95652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F1E4-EA4D-4738-B028-3807F9A182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9BC7-4001-4A4A-8591-CCB3A4433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8291-51E6-4FEE-9E3A-5B754E4D9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AC95-0BED-4D5E-8260-2C25C23AB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536800" y="533520"/>
            <a:ext cx="2971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0A00-764C-4695-9188-67759DAE3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A85C-9CBC-45D5-91A1-B0F829B7E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061400" y="364392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A963-CDC9-47F5-BCB5-B927C9F24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061400" y="1447560"/>
            <a:ext cx="145008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38600" y="3643920"/>
            <a:ext cx="2971800" cy="200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98C74-D519-4D0C-8A2D-CFD71E162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Click to edit the title text format</a:t>
            </a: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17640" indent="-17640"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7640" indent="-17640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7640" indent="-17640"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7640" indent="-1764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7640" indent="-1764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7640" indent="-17640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55040" y="6248160"/>
            <a:ext cx="249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99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C4E6-318F-470F-91AA-30FC86F91AB3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2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AutoShape 2"/>
          <p:cNvSpPr/>
          <p:nvPr/>
        </p:nvSpPr>
        <p:spPr>
          <a:xfrm>
            <a:off x="417600" y="433440"/>
            <a:ext cx="8307360" cy="3108240"/>
          </a:xfrm>
          <a:prstGeom prst="roundRect">
            <a:avLst>
              <a:gd name="adj" fmla="val 4574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18194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9bc9d8"/>
                </a:solidFill>
                <a:latin typeface="Verdana Bold"/>
              </a:rPr>
              <a:t>Click to edit the title text format</a:t>
            </a:r>
            <a:endParaRPr b="0" lang="en-US" sz="4500" spc="-1" strike="noStrike">
              <a:solidFill>
                <a:srgbClr val="9bc9d8"/>
              </a:solidFill>
              <a:latin typeface="Verdana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2000"/>
          </a:bodyPr>
          <a:p>
            <a:pPr marL="15120"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1" marL="15120" indent="-15120" algn="r"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2" marL="15120" indent="-15120" algn="r"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3" marL="15120" indent="-15120" algn="r">
              <a:buClr>
                <a:srgbClr val="0000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4" marL="15120" indent="-1512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5" marL="15120" indent="-1512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  <a:p>
            <a:pPr lvl="6" marL="15120" indent="-15120" algn="r"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6f6e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06f6e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8555040" y="6248160"/>
            <a:ext cx="249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999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91F7-3000-41CA-ABC6-96372DFC3189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814C-E27B-4A7B-8E11-4AAB387135C5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JADE 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hard gemstone often used in jewelry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3276360" cy="32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1981080" y="39625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97544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TOC</a:t>
            </a: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1447560"/>
            <a:ext cx="851076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-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g 3: Vocab Ch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640" indent="-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g4: Vocab 2 c-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D6F3-53AC-4042-A7AE-7C01022E89CE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4843-F36C-4A81-AAB3-93A2B27911F8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LEGALISM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Verdana"/>
              </a:rPr>
              <a:t>THE BELIEF THAT PEOPLE WERE BAD BY NATURE AND NEEDED TO BE CONTROL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303120" y="304920"/>
            <a:ext cx="2965680" cy="3427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1447920" y="3657600"/>
            <a:ext cx="411480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CB9B-B8B9-4622-8A33-EE310373C3D8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THE GREAT WALL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A BARRIER MADE OF WALLS ACROSS CHINA’S NORTHERN FRONTI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462600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766C-3F4C-4F73-BD0D-4D61EE0E2388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SHI HUANGDI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FIRST EMPEROR OF THE QIN DYNASTY.  HE CREATED A STRONG GOVERNMENT WITH STRICT LAWS AND PUNISHME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914400" y="557280"/>
            <a:ext cx="411480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4789-694E-4936-8ECA-10733FFD0336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SILK ROAD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 NETWORK OF TRADE ROUTES THAT STRETCHED ACROSS ASIA FROM CHINA TO THE MEDITERRANEAN SE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762120" y="912960"/>
            <a:ext cx="46260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9EF6-CCDE-42B6-9343-105F59A4B736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SHANG DYNASTY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538600" y="1447920"/>
            <a:ext cx="29718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FIRST DYNASTY: 1500’S B.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LOCATED IN NORTHERN CH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CIAL ORDER BECAME MORE ORGANIZED UNDER THIS DYNAS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374760" y="685800"/>
            <a:ext cx="480672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6FAF-8BAD-4F82-A44D-0A581DF43A99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ZHOU DYNASTY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SECOND DYNAS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LASTED LONGER THAN ANY OTHER DYNASTY IN CHINESE HISTOR</a:t>
            </a:r>
            <a:r>
              <a:rPr b="0" lang="en-US" sz="2400" spc="-1" strike="noStrike">
                <a:solidFill>
                  <a:srgbClr val="00b0f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497844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39DA-80F1-4BD0-93CB-ADD51BA68853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QIN DYNASTY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THIRD DYNAS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DEFEATED ALL WARRING STUATES AND UNIFIED THE COUNTRY UNDER A SINGLE GOVERN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42544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3D51-6ED4-47AB-B34B-F1D5B2CBA802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DIFFUSION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THE SPREAD OF IDEAS FROM ONE CULTURE TO ANOTHER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5006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12808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Bell Ringer</a:t>
            </a: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1447560"/>
            <a:ext cx="820584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What do you know about China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9DC4-C198-480B-AEF4-98FBFD3FF775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20404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TOC</a:t>
            </a: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2280" y="1447560"/>
            <a:ext cx="835848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G 1 VV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Pg 2 Vocab 1 c-n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A002-8A48-4B00-A592-5D932E90F2FC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0FBD-5FB4-442B-9FAF-FA89ED099DC2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HUANG HE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RIVER THAT FLOWS FROM THE KUNLUN MOUNTAINS TO THE YELLOW SEA. ALSO CALLED THE </a:t>
            </a:r>
            <a:r>
              <a:rPr b="0" lang="en-US" sz="2900" spc="-1" strike="noStrike">
                <a:solidFill>
                  <a:srgbClr val="000000"/>
                </a:solidFill>
                <a:latin typeface="Verdana Bold"/>
                <a:ea typeface="Verdana Bold"/>
              </a:rPr>
              <a:t>YELLOW RIV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2381400" cy="2962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1295280" y="3352680"/>
            <a:ext cx="373248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8CB2-FA42-49F8-913D-ED78268F9187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  <a:ea typeface="Verdana"/>
              </a:rPr>
              <a:t>CHANG JIANG RIVER</a:t>
            </a:r>
            <a:endParaRPr b="0" lang="en-US" sz="24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LONGEST RIVER IN ASIA, FLOWING THROUGH EASTERN CHINA. ALSO CALLED THE </a:t>
            </a:r>
            <a:r>
              <a:rPr b="0" lang="en-US" sz="2900" spc="-1" strike="noStrike">
                <a:solidFill>
                  <a:srgbClr val="000000"/>
                </a:solidFill>
                <a:latin typeface="Verdana Bold"/>
                <a:ea typeface="Verdana Bold"/>
              </a:rPr>
              <a:t>YANGTZE RIV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403884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2133720" y="3352680"/>
            <a:ext cx="3238560" cy="24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1441-2459-43D8-AFF4-7525FD26C484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Oracle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38600" y="1447920"/>
            <a:ext cx="29718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Verdana Bold"/>
                <a:ea typeface="Verdana Bold"/>
              </a:rPr>
              <a:t>A group of inscribed animal bones and shells discovered in Chi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762120" y="1870200"/>
            <a:ext cx="4626000" cy="28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76B7-9E3F-4B17-B26E-B3E3C4EE16B1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Confucius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86200" y="1426680"/>
            <a:ext cx="2971800" cy="541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Verdana"/>
              </a:rPr>
              <a:t>He was a Chinese scholar who created a code of behavior based on traditional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 Bold"/>
                <a:ea typeface="Verdana Bold"/>
              </a:rPr>
              <a:t>Confucianism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belief system based on the teachings of Confuciu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533520" y="519120"/>
            <a:ext cx="3960720" cy="51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1"/>
          <p:cNvSpPr/>
          <p:nvPr/>
        </p:nvSpPr>
        <p:spPr>
          <a:xfrm>
            <a:off x="304920" y="328680"/>
            <a:ext cx="8531280" cy="619596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cap="rnd" w="3240">
            <a:solidFill>
              <a:srgbClr val="b0b0ae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417600" y="433440"/>
            <a:ext cx="8307360" cy="5486400"/>
          </a:xfrm>
          <a:prstGeom prst="roundRect">
            <a:avLst>
              <a:gd name="adj" fmla="val 21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ACAD-EFA9-43D7-8482-A6EEE694FF85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36800" y="533520"/>
            <a:ext cx="297180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Daoism</a:t>
            </a:r>
            <a:endParaRPr b="0" lang="en-US" sz="28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538600" y="1447560"/>
            <a:ext cx="297180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Verdana"/>
              </a:rPr>
              <a:t>A Chinese belief system based on the idea of natural order in the worl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o is the force that guides the whole universe, according to Daois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1193760" y="1368360"/>
            <a:ext cx="3760920" cy="38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Bell Ringer</a:t>
            </a:r>
            <a:r>
              <a:rPr b="0" lang="en-US" sz="2200" spc="-1" strike="noStrike">
                <a:solidFill>
                  <a:srgbClr val="6ea0b0"/>
                </a:solidFill>
                <a:latin typeface="Verdana Bold"/>
              </a:rPr>
              <a:t>	</a:t>
            </a:r>
            <a:endParaRPr b="0" lang="en-US" sz="2200" spc="-1" strike="noStrike">
              <a:solidFill>
                <a:srgbClr val="6ea0b0"/>
              </a:solidFill>
              <a:latin typeface="Verdana Bol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447560"/>
            <a:ext cx="8282160" cy="42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17640" indent="-17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Based off of yesterdays notes what is the most important vocabulary to Ancient Chinas daily life? And why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8555040" y="6248520"/>
            <a:ext cx="24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94E6-06BD-4E09-B9A6-792375CB5CB6}" type="slidenum">
              <a:rPr b="0" lang="en-US" sz="1000" spc="-1" strike="noStrike">
                <a:solidFill>
                  <a:srgbClr val="9a999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</dc:creator>
  <dc:description/>
  <cp:keywords/>
  <dc:language>en-US</dc:language>
  <cp:lastModifiedBy>Tyler Daughtry</cp:lastModifiedBy>
  <dcterms:modified xsi:type="dcterms:W3CDTF">2013-11-05T13:51:53Z</dcterms:modified>
  <cp:revision>9</cp:revision>
  <dc:subject/>
  <dc:title>Unit 11: China</dc:title>
</cp:coreProperties>
</file>